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CE81-7E51-4C28-AA6E-21E8153F6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C624-FA39-4C62-8F51-EFA3EF304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7931-CABE-4F6E-A7A7-9C932958C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4D3D-7607-4283-8C10-5E7F356C6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83FFC-57B4-44D5-91DC-3A9924C9B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C25A2-A115-4D84-BA91-48166C4AE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CC399-1D70-4087-912F-C45FB41A1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3268B-1E98-417B-8A58-BB9F9D4AE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99FD4-47B1-4615-9087-2CD55834E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AA11E-C0D5-47AB-8CA4-EFD3C011B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999BE-FFDB-4144-9872-DA1DF83B1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50F3-ED51-41B1-9AC6-FF84FCFF5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64419-E43E-4F11-B950-CE73340BD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D0EC6-1B48-47C5-A9D4-8D5C68C6D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0B0CC-3E1F-4DF9-AB0C-9102EFAD8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0CD83-3ED7-42AD-ACE2-A7F668A6A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1A988-5EFC-4C39-B37A-8E7C67CA7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207F-5A28-4924-AD7F-E36B02F9C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0403-1C4D-48F5-B646-EA3D76E50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62C2-28BB-4100-9A0E-6C1C76DA3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4AE6-8B6F-463B-A1B7-96A5F62C3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A467-92CB-44D5-8245-B36520178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C083-6C6A-4364-B17F-91439E775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B463-D03E-4159-81B8-79042E112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3D7CE-33D6-49DE-9DBD-27FA2B6C45D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00849-F850-4312-AC72-6AEC46AAC81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0066"/>
                </a:solidFill>
                <a:latin typeface="굴림"/>
              </a:rPr>
              <a:t>동산 의료원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굴림"/>
              </a:rPr>
              <a:t>06’ </a:t>
            </a:r>
            <a:r>
              <a:rPr b="1" lang="zh-CN" sz="3200" spc="-1" strike="noStrike">
                <a:solidFill>
                  <a:srgbClr val="000000"/>
                </a:solidFill>
                <a:latin typeface="굴림"/>
              </a:rPr>
              <a:t>김예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09.2.2~2009.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위치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구광역시 중구 동산동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194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물리치료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- 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호선 서문시장역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번 출구 서문시장방향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보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분 거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826920" y="2997360"/>
            <a:ext cx="360360" cy="215640"/>
          </a:xfrm>
          <a:prstGeom prst="rightArrow">
            <a:avLst>
              <a:gd name="adj1" fmla="val 50000"/>
              <a:gd name="adj2" fmla="val 4177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물리치료실 환경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시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이 오래됨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치료사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평균연령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30~40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4:4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정형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신경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소아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로 구성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복장 자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흰 셔츠나 흰 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머리는 단정히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출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늦어도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까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사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~ 1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권 한 장에 천원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퇴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4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에 도서관 보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토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일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공휴일 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A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B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 나누어 오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오후로 도서관에서 개인시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공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과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가짐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질문 거의 없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그냥 치료 하는 것 보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뒷정리하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키는 일 하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주일마다 환자 정해서 차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작성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국내논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요약 발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치료사의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lecture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금요일 아침에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Conference(8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분까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330066"/>
                </a:solidFill>
                <a:latin typeface="굴림"/>
              </a:rPr>
              <a:t>감사합니다</a:t>
            </a:r>
            <a:r>
              <a:rPr b="0" lang="en-US" sz="7200" spc="-1" strike="noStrike">
                <a:solidFill>
                  <a:srgbClr val="330066"/>
                </a:solidFill>
                <a:latin typeface="굴림"/>
              </a:rPr>
              <a:t>.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0:13:27Z</dcterms:created>
  <dc:creator>g]</dc:creator>
  <dc:description/>
  <dc:language>en-US</dc:language>
  <cp:lastModifiedBy>경상대 컴퓨터실 프린터</cp:lastModifiedBy>
  <dcterms:modified xsi:type="dcterms:W3CDTF">2009-04-09T03:28:07Z</dcterms:modified>
  <cp:revision>19</cp:revision>
  <dc:subject/>
  <dc:title>Welcome to 꿈동산</dc:title>
</cp:coreProperties>
</file>