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5A606-2C26-4630-8BC0-091CFF807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9F8AA-A2E3-48C8-83C4-B5C87FCA8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EF0BF-97C8-48DC-9AA9-41B38B7FB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AE59C-E6F2-4443-8096-4E2FBEE74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223D9-1A89-469E-96BA-EFCC1BBF7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AA4DB-D1AA-4550-9293-DE36FB1D2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AC5D6-B4A6-4363-B40E-EDAEEDE90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14F70-F2B7-40DA-B93C-1CBBD02D4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80641-1532-493D-BD7A-FBD8F6E7A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84657-52EA-4BF6-9E25-DA5059D37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AF226-682F-4D17-BD61-064F008DE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7CC15-6BC2-4219-B91B-A448E364F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CEB5E-C75F-4C9F-A0BD-9727C4CE4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3D37B-99F5-4CAF-8765-CE40271D1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0976B-3022-49A2-8AF4-EC75CCF71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A504B-29E5-4786-911B-D67F7EEE6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FABA3-A70D-4B32-AA62-46745DFB4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D7053-6B93-4CCA-9687-B7AF2AEF4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DF6F5-1025-4697-B8C7-61473EFB9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E9C5B-2B02-4FD6-A573-0A0BED298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093E6-9DD5-443F-A923-A3B564A3B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4575F-2895-403B-8E46-EA9A0E6A9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8EA38-53F3-4C8D-B25D-F7983D1B0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1D2C1-BF36-4BF7-B4FD-2099A7B1C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AB15B-DD4E-4516-BD68-233FE63C907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05997-BE5C-4AD6-BCFA-E115683FB8F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844640"/>
            <a:ext cx="78469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fdef6"/>
                </a:solidFill>
                <a:latin typeface="굴림"/>
              </a:rPr>
              <a:t>도료의 종류</a:t>
            </a:r>
            <a:br>
              <a:rPr sz="4400"/>
            </a:br>
            <a:r>
              <a:rPr b="0" lang="en-US" sz="32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dfdef6"/>
                </a:solidFill>
                <a:latin typeface="굴림"/>
              </a:rPr>
              <a:t>특수도료</a:t>
            </a:r>
            <a:endParaRPr b="0" lang="en-US" sz="32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를 제어하여 정보를 관리하고 안전을 보장해주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675"/>
              </a:spcBef>
              <a:buSzPct val="10281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성분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Fe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CrO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Fe)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 주성분인 금속성 분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바인더 수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첨가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용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675"/>
              </a:spcBef>
              <a:buSzPct val="10281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테이프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오디오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디오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컴퓨터 테이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디스크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하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프로피 디스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카드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신용카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철도승차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기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속도로 통행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화카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시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드럼 등과 같은 자기기록 매체 분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자성도료 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화합물의 열분해에 의한 불가역적인 색의 변화를 이용한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온도의 변화에 따라 색이 변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특정온도에 따라 색의 변화가 뚜렷한 화합물이나 용융에 의해 상태가 변하는 화합물이 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안료로 코발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니켈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동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크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망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납 등이 이용되며 사용되는 화합물의 성분 중에는 아민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암모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탄산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브롬산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수산기를 함유한 것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식품의 안전 관리를 위해 많이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시온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가열이나 전자파 조사에 의한 도막 경화과정 중에 수백 마이크론 정도로 부풀어  입체감을 나타내주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미끄럼 방지 효과와 큐션성을 기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발포성 방화도료로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방화도료는 발포용원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착색원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바인더로 구성되며 방화성능 향상을 위해 인산을 주로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종이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섬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피혁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금속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합성수지 와 같은 소재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발포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 및 라디오파 차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대전방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표면오염 방지에 사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기기의 경량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단순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에너지 주파수 분포의 고밀도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플라스틱 재료 이용의 확대 등이 이루어짐에 따라 더욱 효과적이고 종합적인 개념의 전자파 차폐기술이 요구되며 이 때문에 전자파차폐 도료가 주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장비에 주로 사용되며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전기 장해방지용 포장재료 이용을 위한 연구가 진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도전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81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유해가스의 발생을 동반하는 연소의 진행을 막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발포성 방화도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재가 가연성인 경우 기재의 난연화가 목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발포성 도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재가 불연성인 경우 도막의 단열작용으로 기재의 열 노화를 방지하여 가연물로 인한 연소를 방지하는 것이 목적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제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초산비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화비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아크릴 등의 난연성 바인더에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산화 안티몬과 같은 난연조제물를 첨가하여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완전 불연성도료는 무기질바인더에 무기질 안료를 배합시킨 것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화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의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제어를 통해 기술적으로 방음을 할 수 있도록 한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방음종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전달경로에 벽을 세워 음을 반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단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흡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에너지를 흡수하여 소멸시키거나 작게 만드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방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원인을 억제 함에 의하여 음의 발생을 억제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제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어떠한 진동에 의해 발생되기에 진동을 차단하거나 흡수함에 의해 음의 방출을 감소시키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공장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교통기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확청장치나 악기연주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학교나 유치원에서의 어린이 소리 등을 제어하는데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음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청강 등의 구조재에 손상을 입히는 녹을 방지하기 위해 사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불소수지도료와 세라믹도료가 각광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1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에서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으로 도막수명을 연장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세라믹도료의 경우 세라믹 안료와 알키드수지 또는 염화고무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배관을 통해 전달되는 진동에 의한 소음을 방지하기 위해 적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아스팔트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에폭시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프탈산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에멀션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화비닐계 등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두꺼운 도막을 형성하기에 다량의 충전제가 첨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석면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섬유 등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안료로 탄산칼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활석 등이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빌딩의 수도관이나 가스관에 적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량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선박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동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건축 및 그 밖에 여러 분야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진도료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06:05:51Z</dcterms:created>
  <dc:creator>In</dc:creator>
  <dc:description/>
  <dc:language>en-US</dc:language>
  <cp:lastModifiedBy>Daniel Yang</cp:lastModifiedBy>
  <dcterms:modified xsi:type="dcterms:W3CDTF">2009-09-13T09:10:12Z</dcterms:modified>
  <cp:revision>69</cp:revision>
  <dc:subject/>
  <dc:title>목질재료학 및 실험</dc:title>
</cp:coreProperties>
</file>